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4D38-19B1-4BF4-960D-3ADC4AAF2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third bullet (interrelate…) is the rationale for the activity in Action por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82DA-C5DB-44D6-ADAA-1C238036C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ion – guess on time for the BLM QR.2.1 – 40 minutes including discussion of big idea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CF73-66CF-4423-A31A-3E78FA25E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83E8-8D2E-4A06-A291-447CF3810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 think this would be about 30 minutes, with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8642-BCD1-42B4-BA0C-688530F1D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ion – 5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uld discuss strategies they used – sequential selection of x valu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iscuss research on above struggles and how introduction to quads through geometric models links quads to 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D239-F7E3-4B9F-8CD1-1CF1F24E8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AC98-BAB8-463B-9C4A-1A8F9B7D6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solidate/Debr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s part – 2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5E7B-33A2-41EE-8B5E-C2320A916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Stumbling Blocks – 10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F3E6-F8EF-4E3C-A3BF-DB1351129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2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0E0B-9FBA-43C8-8DF3-484A3B481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10 minutes for both the student and teacher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&lt;&lt; Both student struggles and teacher suggestions need to be edited – I just copied them all in for now but we will need to reduce the list to remove repetitive entries&gt;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B9DA-A43D-4F4C-A628-A6668271F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A703-4553-4417-8429-8258BE83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5FCB-CA5D-4B15-99DD-204FDC06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F4D7-5B13-4101-A638-D3D4DE2F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1A93-7204-4B8C-BB2D-5A38E68A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7DF6-7067-466F-85A2-1154F334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82B6-3DE3-4CE4-A2F5-2382CF64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2C96-EA9C-4FD2-B30F-4875FD9D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79C6-1F79-47CC-A1AE-009C14B1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D17B-3823-4473-9410-209CE1E0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FD43-A445-4834-B18C-4F88E857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55CA-25AA-4B86-802A-C751C926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6114-DF1A-4A88-9B8A-379C7C4D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CC52-0B55-4FC1-A99D-03E6754D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E892-AE12-4527-8FD4-6B8A00EE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4A24-B48A-4426-8553-4380F4CB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426F-23F6-4724-B3FD-CBFDA57A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02B6-8086-403D-9D59-DF8F1F6D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CB9C-2126-464D-B87B-26D9FD51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E31E-5E71-4391-8C05-86AE5ED1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11DA-3DEE-470A-8D87-AB6CA5FF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D927-5E9E-4D0F-9234-DA803305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9DB-900F-46EB-9CC0-0BCE9F88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834D-46CD-4E40-B869-93D37076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949A-33FA-445E-A33F-44B24244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B0ED-741F-478B-A002-51C445A9D10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E28C-99F3-4505-B6F9-D36B73DBA41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Tripping Over </a:t>
            </a:r>
            <a:br>
              <a:rPr sz="4800"/>
            </a:b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Stumbling Bl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well-designed set of tasks or examples that emphasize the distinction between the quadratic formula and quadrati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esent the vertex form by connecting it to the standard form and emphasize the connections to the graph as well as information about how and when to us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 open and prepared to communicate with students in terms of confronting, discussing, and dealing with these conflicting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void sequential presentation of the forms and instead simultaneously introduce vertex and standard form, emphasize the differences between them and reveal the underlying thoughts that generated vertex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necting the problem, the graph and the vertex to avoid isolated and unconnected knowledge in the student’s cognitiv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terrelate graphical and algebraic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nitor student thinking to expose misconstructs and to allow deeper connections to be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cus on quantitative relationships that can be represented by both linear and quadrat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amine the ways in which quadratic growth differs from linear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- Activit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&lt;&lt;need to add instructions here&gt;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357120" y="1571760"/>
            <a:ext cx="8358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How did</a:t>
            </a: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	</a:t>
            </a: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Why did</a:t>
            </a: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	</a:t>
            </a: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is activity addre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lesson goal?       the big ide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Student Struggl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cuss struggles that you experienced while engaged in this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 chart paper, record struggles you think students might have when completing the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cord at least one question for each struggle which w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Reveal the struggle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caffold for some struggling student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the connections you see between the identified struggle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big idea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curriculum expecta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suggested instructional strategie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lesson goal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- Activit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&lt;&lt;need to insert revised (when it is) BLM QR.2.2&gt;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3"/>
          <p:cNvSpPr/>
          <p:nvPr/>
        </p:nvSpPr>
        <p:spPr>
          <a:xfrm>
            <a:off x="357120" y="1571760"/>
            <a:ext cx="8358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How did</a:t>
            </a: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	</a:t>
            </a: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Why did</a:t>
            </a: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	</a:t>
            </a: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is activity addre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lesson goal?       the big ide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Think Bac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specific struggles would this activity potentially address for studen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could be done to address the 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id the use of manipulatives add to your problem solving strategy? understanding? ability to connect represent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y common student struggles (errors, misconceptions, and partial conceptions etc) that are grounded in experience and/or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lize that different representations of relationships highlight different characteristics or behaviours, and can serve differen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light the importance of being conscious and explicit about the instructional decisions; specifically, the need for simultaneous introduction &amp; exploration of differ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Exit Car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plete the exit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t out algebra tiles from BLM QR.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Stumbling Bloc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about common stud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misconcep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tumbling block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erro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partial concep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one per sticky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the sticky note beside the appropriate curriculum cluster or big idea or lesson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Revisit Lesson Goal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convene with your groups for lesson goals from 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ing the sticky notes to supplement your own consideration of the struggles students normally encounter, revise and/or add to your lesson goal from 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ost your lesson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760" y="185724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iew a graph as a sketch through three or four points and never consider trends in families of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recognize the role or significance of the x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arely consider ways in which the graph provides visual insight into the behaviour of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il to understand the power of the graphic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il to connect the graphical representation to other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symbols before they understand the meanings behind the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understand the relevance of a solution to 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comprehend the beauty and significance of the graph (because there is an overdependence on the procedure of grap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two simultaneous evoked images for one concept, which results in cognitive conflict (e.g., quadratic function evokes quadratic formula and parabo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ck understanding about when and how to use the vertex (h,k) with the vertex form, y=x(a-h)2+k, which is demonstrated through students using the same process (algebraic to graphical) regardless of the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ck understanding of why a parabola horizontally or vertically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phenomenon of compartmentalization – having two different, potentially conflicting algebraic and graphical schemes in the cognitiv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a tendency to use standard form over vertex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isinterpreting the point (b,c) as the vertex of the standard form y=ax2+bx+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gage students in connecting various representations of a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students solve problems graphically before algebraically in order to build better connections between the graph and the equation (not true for algebraic to graph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students build quadratic functions by multiplying linear functions (rather than seeing them as a new, unrelated top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ose students to quadratic equations that cannot be factored in order to expand their understanding that factoring is not always the appropriate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gage students in judging reasonableness of the answer and appropriate types of solutions, which requires students to understand the numb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s.yearley</cp:lastModifiedBy>
  <dcterms:modified xsi:type="dcterms:W3CDTF">2009-07-19T18:49:45Z</dcterms:modified>
  <cp:revision>123</cp:revision>
  <dc:subject/>
  <dc:title>Slide 1</dc:title>
</cp:coreProperties>
</file>